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7204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544760" y="914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28760" y="914400"/>
            <a:ext cx="5073480" cy="3481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2920" y="1897200"/>
            <a:ext cx="9732960" cy="729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63760"/>
            <a:ext cx="860904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Natural Language Interface Using First Order Logi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343400"/>
            <a:ext cx="10287000" cy="2514600"/>
          </a:xfrm>
          <a:prstGeom prst="roundRect">
            <a:avLst>
              <a:gd name="adj" fmla="val 6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6160" y="2236680"/>
            <a:ext cx="860904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And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ed by Gary Pollice and Dan Dough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7080" y="2103120"/>
            <a:ext cx="86090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ig Andr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Me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by Gary Pollice and Dan Dough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oject Overvie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jban Text --(analysis)--&gt;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--&gt; pars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 --&gt; grammar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--&gt; log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Logic --(reasoner)--&gt; Answer Log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--(synthesis)--&gt; Lojban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--&gt;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s --&gt;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--&gt;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6520" y="5817960"/>
            <a:ext cx="3200400" cy="893880"/>
          </a:xfrm>
          <a:prstGeom prst="rect">
            <a:avLst/>
          </a:prstGeom>
          <a:solidFill>
            <a:srgbClr val="00b8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6960" rIns="66960" tIns="21960" bIns="21960" anchor="ctr">
            <a:spAutoFit/>
          </a:bodyPr>
          <a:p>
            <a:pPr lvl="1"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u le gunt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 xagj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ext --&gt; Tre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31464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grammar (P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ts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s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89440" y="1733400"/>
            <a:ext cx="6256440" cy="585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92640" y="6256440"/>
            <a:ext cx="914400" cy="144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ree --&gt; Grammar 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4520" y="2166480"/>
            <a:ext cx="5029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ly simplif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English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38160" y="2143080"/>
            <a:ext cx="2616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/yes-no 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10480" y="4593960"/>
            <a:ext cx="23050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agj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/'hungers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3680" y="3659040"/>
            <a:ext cx="24415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idi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871960"/>
            <a:ext cx="2304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un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/'attacks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69480" y="5871960"/>
            <a:ext cx="15462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mplicit/'it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6" idx="2"/>
            <a:endCxn id="78" idx="0"/>
          </p:cNvCxnSpPr>
          <p:nvPr/>
        </p:nvCxnSpPr>
        <p:spPr>
          <a:xfrm flipV="1" rot="10800000">
            <a:off x="6093720" y="2814120"/>
            <a:ext cx="1553400" cy="84384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82" name=""/>
          <p:cNvCxnSpPr>
            <a:stCxn id="76" idx="2"/>
            <a:endCxn id="77" idx="0"/>
          </p:cNvCxnSpPr>
          <p:nvPr/>
        </p:nvCxnSpPr>
        <p:spPr>
          <a:xfrm>
            <a:off x="7646760" y="2814120"/>
            <a:ext cx="1216440" cy="177876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sp>
        <p:nvSpPr>
          <p:cNvPr id="83" name=""/>
          <p:cNvSpPr/>
          <p:nvPr/>
        </p:nvSpPr>
        <p:spPr>
          <a:xfrm>
            <a:off x="4800600" y="4771800"/>
            <a:ext cx="24415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e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/restricti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8" idx="2"/>
            <a:endCxn id="83" idx="0"/>
          </p:cNvCxnSpPr>
          <p:nvPr/>
        </p:nvCxnSpPr>
        <p:spPr>
          <a:xfrm flipV="1" rot="10800000">
            <a:off x="6020640" y="4373280"/>
            <a:ext cx="73800" cy="39924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85" name=""/>
          <p:cNvCxnSpPr>
            <a:stCxn id="83" idx="2"/>
            <a:endCxn id="80" idx="0"/>
          </p:cNvCxnSpPr>
          <p:nvPr/>
        </p:nvCxnSpPr>
        <p:spPr>
          <a:xfrm flipV="1" rot="10800000">
            <a:off x="5341320" y="5486040"/>
            <a:ext cx="678600" cy="38484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86" name=""/>
          <p:cNvCxnSpPr>
            <a:stCxn id="83" idx="2"/>
            <a:endCxn id="79" idx="0"/>
          </p:cNvCxnSpPr>
          <p:nvPr/>
        </p:nvCxnSpPr>
        <p:spPr>
          <a:xfrm>
            <a:off x="6021000" y="5486040"/>
            <a:ext cx="1382040" cy="38484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sp>
        <p:nvSpPr>
          <p:cNvPr id="87" name=""/>
          <p:cNvSpPr/>
          <p:nvPr/>
        </p:nvSpPr>
        <p:spPr>
          <a:xfrm>
            <a:off x="506520" y="5817960"/>
            <a:ext cx="3200400" cy="893880"/>
          </a:xfrm>
          <a:prstGeom prst="rect">
            <a:avLst/>
          </a:prstGeom>
          <a:solidFill>
            <a:srgbClr val="00b8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6960" rIns="66960" tIns="21960" bIns="21960" anchor="ctr">
            <a:spAutoFit/>
          </a:bodyPr>
          <a:p>
            <a:pPr lvl="1"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u le gunt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 xagj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92640" y="6256440"/>
            <a:ext cx="914400" cy="144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Grammar Structure --&gt; Logi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2894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into Reason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l (a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s (atom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4680" y="2057400"/>
            <a:ext cx="2057400" cy="685800"/>
          </a:xfrm>
          <a:prstGeom prst="rect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24480" y="3200400"/>
            <a:ext cx="1371600" cy="914400"/>
          </a:xfrm>
          <a:prstGeom prst="ellipse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67280" y="4800600"/>
            <a:ext cx="2057400" cy="685800"/>
          </a:xfrm>
          <a:prstGeom prst="rect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6172200"/>
            <a:ext cx="1371600" cy="914400"/>
          </a:xfrm>
          <a:prstGeom prst="ellipse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0280" y="5943600"/>
            <a:ext cx="1828800" cy="1371600"/>
          </a:xfrm>
          <a:prstGeom prst="diamond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 flipV="1" rot="10800000">
            <a:off x="5028480" y="5486040"/>
            <a:ext cx="967680" cy="686520"/>
          </a:xfrm>
          <a:prstGeom prst="bentConnector3">
            <a:avLst>
              <a:gd name="adj1" fmla="val 49981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97" name=""/>
          <p:cNvCxnSpPr>
            <a:stCxn id="93" idx="2"/>
            <a:endCxn id="95" idx="0"/>
          </p:cNvCxnSpPr>
          <p:nvPr/>
        </p:nvCxnSpPr>
        <p:spPr>
          <a:xfrm>
            <a:off x="5995800" y="5486400"/>
            <a:ext cx="1028880" cy="457920"/>
          </a:xfrm>
          <a:prstGeom prst="bentConnector3">
            <a:avLst>
              <a:gd name="adj1" fmla="val 49982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98" name=""/>
          <p:cNvCxnSpPr>
            <a:stCxn id="92" idx="2"/>
            <a:endCxn id="93" idx="0"/>
          </p:cNvCxnSpPr>
          <p:nvPr/>
        </p:nvCxnSpPr>
        <p:spPr>
          <a:xfrm flipV="1" rot="10800000">
            <a:off x="5995440" y="4114440"/>
            <a:ext cx="114840" cy="686520"/>
          </a:xfrm>
          <a:prstGeom prst="bentConnector3">
            <a:avLst>
              <a:gd name="adj1" fmla="val 50000"/>
            </a:avLst>
          </a:prstGeom>
          <a:ln w="45720">
            <a:solidFill>
              <a:srgbClr val="000000"/>
            </a:solidFill>
            <a:round/>
          </a:ln>
        </p:spPr>
      </p:cxnSp>
      <p:cxnSp>
        <p:nvCxnSpPr>
          <p:cNvPr id="99" name=""/>
          <p:cNvCxnSpPr>
            <a:stCxn id="91" idx="2"/>
            <a:endCxn id="92" idx="0"/>
          </p:cNvCxnSpPr>
          <p:nvPr/>
        </p:nvCxnSpPr>
        <p:spPr>
          <a:xfrm flipV="1" rot="10800000">
            <a:off x="6109560" y="2742840"/>
            <a:ext cx="1944000" cy="457920"/>
          </a:xfrm>
          <a:prstGeom prst="bentConnector3">
            <a:avLst>
              <a:gd name="adj1" fmla="val 49990"/>
            </a:avLst>
          </a:prstGeom>
          <a:ln w="45720">
            <a:solidFill>
              <a:srgbClr val="000000"/>
            </a:solidFill>
            <a:round/>
          </a:ln>
        </p:spPr>
      </p:cxnSp>
      <p:sp>
        <p:nvSpPr>
          <p:cNvPr id="100" name=""/>
          <p:cNvSpPr/>
          <p:nvPr/>
        </p:nvSpPr>
        <p:spPr>
          <a:xfrm>
            <a:off x="8167680" y="4114800"/>
            <a:ext cx="1828800" cy="1371600"/>
          </a:xfrm>
          <a:prstGeom prst="diamond">
            <a:avLst/>
          </a:prstGeom>
          <a:solidFill>
            <a:srgbClr val="99cc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2680" rIns="112680" tIns="67680" bIns="67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1" idx="2"/>
            <a:endCxn id="100" idx="0"/>
          </p:cNvCxnSpPr>
          <p:nvPr/>
        </p:nvCxnSpPr>
        <p:spPr>
          <a:xfrm>
            <a:off x="8053200" y="2743200"/>
            <a:ext cx="1028880" cy="1372320"/>
          </a:xfrm>
          <a:prstGeom prst="bentConnector3">
            <a:avLst>
              <a:gd name="adj1" fmla="val 49982"/>
            </a:avLst>
          </a:prstGeom>
          <a:ln w="45720">
            <a:solidFill>
              <a:srgbClr val="000000"/>
            </a:solidFill>
            <a:round/>
          </a:ln>
        </p:spPr>
      </p:cxnSp>
      <p:sp>
        <p:nvSpPr>
          <p:cNvPr id="102" name=""/>
          <p:cNvSpPr/>
          <p:nvPr/>
        </p:nvSpPr>
        <p:spPr>
          <a:xfrm>
            <a:off x="506520" y="6070680"/>
            <a:ext cx="3200400" cy="893880"/>
          </a:xfrm>
          <a:prstGeom prst="rect">
            <a:avLst/>
          </a:prstGeom>
          <a:solidFill>
            <a:srgbClr val="00b8ff">
              <a:alpha val="50000"/>
            </a:srgbClr>
          </a:solidFill>
          <a:ln w="45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6960" rIns="66960" tIns="21960" bIns="21960" anchor="ctr">
            <a:spAutoFit/>
          </a:bodyPr>
          <a:p>
            <a:pPr lvl="1"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u le gunt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 xagj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2640" y="6543720"/>
            <a:ext cx="914400" cy="144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sone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gable/replac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TP (Java Theorem Prov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all inference and log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f knowled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g-lik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soner Syntax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u le gunta cu xag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: (=&gt; (fact gunta ?a) (fact xagji ?a)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“attack”                             “hung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spot ger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: (and (cmene “spot” s1) (gerku s1)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named”                            “dog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49600" y="3006360"/>
            <a:ext cx="457200" cy="46044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848640" y="2970360"/>
            <a:ext cx="468000" cy="46008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93960" y="5310360"/>
            <a:ext cx="457200" cy="46008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5273640"/>
            <a:ext cx="77760" cy="44280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ogic --&gt; Descrip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till go from “s1” to Spot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swer in terms of knowled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erku”, “le gunta”, “le xagji”, “la spot.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dog, the attacker, the hungry one, Spo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s for usefuln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peating questions in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escriptions --&gt; Sent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in complete sent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ks Jim?” 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ks.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question as answ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question words, like in Englis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ne extra information to be conc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entences --&gt; Speec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27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ak textual output from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jban pronunciation is well defined and unambiguous, unlik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jban voice simper to implement tha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77840" y="5456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12160" y="5380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78640" y="6446880"/>
            <a:ext cx="17528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6960" y="6446880"/>
            <a:ext cx="1752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JBAN (OUR)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080" y="5761080"/>
            <a:ext cx="4647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xu le gunta cu xagj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82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4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 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Lojban text into first order logic knowled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inferences on that knowled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s regarding knowledge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- Engli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s attack people who are evil and when they are hu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ople are not e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t, a dog, attacks Jim, a good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ttacker hung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unger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t hu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560" y="1080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nother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1520" y="2057400"/>
            <a:ext cx="374328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, Mike, and Sue ar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 is Mike's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 is Sue's sib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siblings of their sib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aunts/uncles of their siblings'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aunt/uncle to M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e is an aunt/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14800" y="1057320"/>
            <a:ext cx="5940360" cy="64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We 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Don't D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halt (theorem provers don'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fact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red and tall.  B is green and tall.  C is red and gre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unable to describe A, B, o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ingu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s, etc. (Epistemic log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Future Applic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dditional resear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/query interfa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ifficult to Resolv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k people who are evil and w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hung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?  Good, well-fed people are sa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s? Good people are safe around well-fed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specific group of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- Engli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s attack people who are evil and when they are hu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ople are not e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t, a dog, attacks Jim, a good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ttacker hung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unger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t hu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- Lojba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gerku goi ko'a cu gunta le prenu .inaja ga ko'a xagji gi ri pal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prenu poi xamgu na pal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spot. noi gerku cu gunta la jim. noi prenu zi'e noi xam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u le gunta cu xagj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'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 xagj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 spot. xag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- Lojba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erku goi ko'a cu gunta le prenu .inaja ga ko'a xagji gi ri p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attack people if (they [dogs] are hungry or they [people] are evi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oject Goal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knowledge from Lojba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first order reasoning on that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s, speak answer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560" y="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33600" y="1143000"/>
            <a:ext cx="71546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Lojban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61182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ir-Whorf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s based on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-neutral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mbig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passes many NLP proble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40560" y="21034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Itz</cp:lastModifiedBy>
  <dcterms:modified xsi:type="dcterms:W3CDTF">2005-12-14T17:54:55Z</dcterms:modified>
  <cp:revision>8</cp:revision>
  <dc:subject/>
  <dc:title>Natural Language Processing Using First Order Logic</dc:title>
</cp:coreProperties>
</file>