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BD450-8069-41EC-84E7-6C75913D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A49E0-37C5-45DC-A3BD-163A1737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B4B96-4A7D-4B97-BCD8-607791C8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4D445-E84F-4CC7-BA26-AF482BFA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54E2-F16B-48DE-9D23-D42EE59D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35BA-1E8E-4649-9DF6-25B2C1C7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F7BC-6FF5-42C1-9362-55F9EE13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3C2F-4EF8-4F02-9318-79EDC215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41DC-9D20-4C95-A84B-08E3074C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721A-177F-455F-B879-B0AEE874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06D6-3766-49DA-B533-A2234AF1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3FEB2-84CE-434D-9FE4-C176789C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D366-D4C0-49E8-99B5-B750F3F6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D5C0-52E8-46A6-B3D7-75C09B5A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D3AD-B15B-4C03-B8C1-42C85E42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D983-B1FE-4EAE-AB81-B7AC16FC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4BBD-DA1B-4AA3-A6D3-F8ADDA6A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D620-0F06-4FDB-8A5D-813B053E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11805-2AA8-45AB-8E7E-3D08AE9D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98E51-2FCE-4B6D-9B81-7C003236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F4106-0933-4BAA-884F-638CB903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C8202-7B47-4B52-ADF4-141202CF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A6DAC-1D48-42E5-A1DC-B00A62BC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D5AB2-74BA-4F02-8C88-44E9FB5F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E29F-BA2B-48AA-AC14-1354643759FD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00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F9F8-00FE-4FA6-A2B7-F97682FA1287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cm.wpi.edu/?PHPSESSID=a725d419128d8467188622dcbad0ff15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9920" y="2095560"/>
            <a:ext cx="600408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nalysis of the Solicitation Process in Montgomery Count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raig Andrew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rol Basmaji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rtin Mey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238880" y="496260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114800" y="5486400"/>
            <a:ext cx="2362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chival Research-Procurement Gu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view of the procurement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ed us to select case study candid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ed us to formulate good interview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chival Research-Procurement Gu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ly read through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read through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interview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ded criteria for case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d project related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chival Research-Procurement Gu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y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 understanding of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ct project bound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 process flow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how the process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docu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ed criteria from Procurement G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ed Manager for procurement in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and took notes on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nt through one of the solicitations with its procurement speci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understanding of th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f documents for all types of proc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f fields in these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information for better interview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process flow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 document 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urement Specia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 Donne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d Coll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mmy Dix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get and Management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 Watkins Tho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ior Budget and Management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Gre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 questions from the Procurement Guide and Case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a better understanding of th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process flowchart and documents diagram draf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copies and explanations of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performance met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dings and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wchart and Document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 Metr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86200" y="4572000"/>
            <a:ext cx="1371600" cy="1371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r Project Te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aig Andr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year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Science maj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ce President of the WPI Association for Computing Machin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H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45720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-by-step overview of solicitatio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s the 9 types of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initiating memo to contract exec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in Microsoft Vis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for 8.5”x11” paper, 12 pages or poster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1447920"/>
            <a:ext cx="7772400" cy="525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chart S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509840"/>
          <a:ext cx="6553080" cy="52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09840"/>
                    <a:ext cx="6553080" cy="52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it usefu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a guide for writing 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insert into Procurement G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used to train new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cument 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ram of all documents involved in each type of proc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f all fields involved in each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ts on 8.5”x11”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in Vis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1447920"/>
            <a:ext cx="7238880" cy="53751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cument Diagram S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600200" y="1523880"/>
          <a:ext cx="6477120" cy="52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6477120" cy="52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cument 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it usefu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used directly for translating documents into 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used for internal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it no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just a confused T-shirt size”-Professor De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interpretable 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mas (document outlines) for all documents in the solicitatio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mas for describing events and 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ML Schem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for each of the 9 solicitation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for each supporting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“simple” types can be reused by other parts of the Cou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4920" y="1523880"/>
            <a:ext cx="8458200" cy="5029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ML Sample-Tex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!-- edited with XMLSpy v2005 U (http://www.xmlspy.com) by Carol Basmaji (Montgomery County) --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xs:schema xmlns:xs="http://www.w3.org/2001/XMLSchema" elementFormDefault="qualified" attributeFormDefault="unqualified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xs:include schemaLocation="../entity.xsd"/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xs:include schemaLocation="../simpletypes.xsd"/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xs:complexType name="Department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xs:annotation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xs:documentation&gt;A complextype which extends Entity.  Use to describe any government department.&lt;/xs:documentation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/xs:annotation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xs:complexConten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xs:extension base="Entity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xs:element name="address" type="Address" maxOccurs="unbounded"/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xs:element name="phoneNumber" type="PhoneNumber" maxOccurs="unbounded"/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/xs:extension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/xs:complexConten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ML Sample-Graphica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r Project Tea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ol Basma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year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 Engineering maj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 of the American Society of Civil Engine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35159"/>
          <a:stretch/>
        </p:blipFill>
        <p:spPr>
          <a:xfrm>
            <a:off x="2438280" y="4648320"/>
            <a:ext cx="457200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it be u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allow the Office of Procurement to transmit data between depar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e used in the future to implement a BP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e used to format Word Document Temp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e used to gather data for performance met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formance Metr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of gauging performance of the Office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an be added to existing measures in the “Montgomery Measures Up!” pub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will be used at the internal level to assess the flow of the procurement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will be used as base ideas for any additional metrics the Office might cre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formance Metr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based on the following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s/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load/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formance Metrics: 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time to complete a procurement (from receiving initiating memo to signing of contra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: Service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ime between receiving initiating memo to when the contract is signed for each type of procur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iona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 the entire procurement process, giving one numb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averages for each different type of solici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formance Metrics: 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using department satisfaction of the procurement proce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: Outcomes/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ing of 0 to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iona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to assess department satisfaction with the Office of Procur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to decide if the process needs to be optimized, and how many content or discontent departments the Office has dealt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formance Metr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ill they be us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ffice can monitor its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ffice can identify performance issues and take corrective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PMS can calculate many of these automat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ieved our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human readable documentation: Process Flowchart and Documents 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computer interpretable documentation: 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ed Performance Met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thank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Tign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el Le Guell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Gre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sha Watkins Tho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L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 Donne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d Coll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mmy Dix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se Facc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or James Dem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or Joseph Petrucce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more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 our project from: http://users.wpi.edu/~candrews/iqp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or Com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r Project Te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tin Me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year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Science maj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s on continuing at WPI for a masters deg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989440" cy="3886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cester Polytechnic Institu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ed in Worcester, 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2,800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uate and undergraduate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es in science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10080" y="1980720"/>
            <a:ext cx="3276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r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the events, documents, and actions involved in the solicitatio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human-readable and computer-interpretable docum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 performance met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r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o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the Procurement G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uct a Case Study with two current solicit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 interviews with the Office of Procurement Employ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XML and flowchart computer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r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chart and documents 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ML 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Metric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ival Research-Procurement Gu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4:45:23Z</dcterms:created>
  <dc:creator>Martin Meyer</dc:creator>
  <dc:description/>
  <dc:language>en-US</dc:language>
  <cp:lastModifiedBy>Craig Andrews</cp:lastModifiedBy>
  <dcterms:modified xsi:type="dcterms:W3CDTF">2004-12-09T17:54:43Z</dcterms:modified>
  <cp:revision>56</cp:revision>
  <dc:subject/>
  <dc:title>Analysis of the Solicitation Process in Montgomery County</dc:title>
</cp:coreProperties>
</file>